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9E4-6F36-4912-AF55-92ACEF2C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2B5-DCB3-4C62-884F-4C8972F9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C85-8D97-45F4-B731-064ADAE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74C-BA49-492A-BD59-86A5F1D0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A272-5C40-4CDC-AEBA-E351DD10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8AFE-A3B4-4A75-86BE-87038796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C11B-AED8-442D-990E-977B8BD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ED0F-A542-450E-B5EE-8B4883BC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F3CC-FC5F-4601-A09F-D176AE79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41D2-4F18-4FC9-AFC5-8E6E3A50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0C88-C252-4B05-87F8-82B3878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1B6-9D66-4602-8047-04053DBA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608D-79A3-43E3-AB45-E6560F4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A880-6756-40EC-91D3-FEE431E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CF22-0849-4D34-A1D4-845F37AE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3728-A8AE-4C38-B15B-2DD0D9FC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42A3-1FEB-4DA8-9DD6-0B15BA41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D25-1B11-47F6-A59B-D7F4FA36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DBC-C0E2-4250-9F0A-3F055E7F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D47-8E4B-4CC4-8C41-A3BA8B43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741-F9F8-496F-8215-B11C997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685-0417-401F-B0A2-61576FE9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778-C239-4088-A557-4A804C7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D70-B6C1-4A2B-944C-4F5ACD8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064-F984-4553-A3DA-CF62DD0A54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8397-2879-402F-BC65-928F16D2A9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3" descr="TALKIN~1"/>
          <p:cNvPicPr/>
          <p:nvPr/>
        </p:nvPicPr>
        <p:blipFill>
          <a:blip r:embed="rId1"/>
          <a:stretch/>
        </p:blipFill>
        <p:spPr>
          <a:xfrm>
            <a:off x="509760" y="3541680"/>
            <a:ext cx="1261800" cy="19447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7"/>
          <p:cNvSpPr txBox="1"/>
          <p:nvPr/>
        </p:nvSpPr>
        <p:spPr>
          <a:xfrm>
            <a:off x="1938240" y="2054160"/>
            <a:ext cx="5616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fd767"/>
                </a:solidFill>
                <a:latin typeface="Impact"/>
              </a:rPr>
              <a:t>ПРОИЗВОД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fd767"/>
              </a:solidFill>
              <a:latin typeface="Impact"/>
              <a:ea typeface="Impact"/>
            </a:endParaRPr>
          </a:p>
        </p:txBody>
      </p:sp>
      <p:sp>
        <p:nvSpPr>
          <p:cNvPr id="153" name="WordArt 20"/>
          <p:cNvSpPr txBox="1"/>
          <p:nvPr/>
        </p:nvSpPr>
        <p:spPr>
          <a:xfrm>
            <a:off x="2292480" y="3784680"/>
            <a:ext cx="493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d670"/>
                </a:solidFill>
                <a:latin typeface="Arial"/>
              </a:rPr>
              <a:t>В ХИМИИ И БИОЛОГ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d670"/>
              </a:solidFill>
              <a:latin typeface="Arial"/>
              <a:ea typeface="Arial"/>
            </a:endParaRPr>
          </a:p>
        </p:txBody>
      </p:sp>
      <p:pic>
        <p:nvPicPr>
          <p:cNvPr id="154" name="Picture 25" descr="ANI_TAZ"/>
          <p:cNvPicPr/>
          <p:nvPr/>
        </p:nvPicPr>
        <p:blipFill>
          <a:blip r:embed="rId2"/>
          <a:stretch/>
        </p:blipFill>
        <p:spPr>
          <a:xfrm>
            <a:off x="5006880" y="511200"/>
            <a:ext cx="15321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8240" y="131400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f8ce8"/>
                </a:solidFill>
                <a:latin typeface="Comic Sans MS"/>
              </a:rPr>
              <a:t>Задача по биолог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2280" y="2271600"/>
            <a:ext cx="7126200" cy="18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 известной зависимости численности популяции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)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определить относительный прирос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момент времени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ANI_ROAD"/>
          <p:cNvPicPr/>
          <p:nvPr/>
        </p:nvPicPr>
        <p:blipFill>
          <a:blip r:embed="rId1"/>
          <a:stretch/>
        </p:blipFill>
        <p:spPr>
          <a:xfrm>
            <a:off x="2622600" y="4124160"/>
            <a:ext cx="2303280" cy="13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NI_TWEE"/>
          <p:cNvPicPr/>
          <p:nvPr/>
        </p:nvPicPr>
        <p:blipFill>
          <a:blip r:embed="rId2"/>
          <a:stretch/>
        </p:blipFill>
        <p:spPr>
          <a:xfrm>
            <a:off x="5730840" y="3651120"/>
            <a:ext cx="82872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75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7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4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67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6040" y="97308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65895"/>
                </a:solidFill>
                <a:uFillTx/>
                <a:latin typeface="Monotype Corsiva"/>
              </a:rPr>
              <a:t>Популяция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совокупность особей данного вида, занимающих определённый участок территории внутри ареала вида, свободно скрещивающихся между собой и частично или полностью изолированных от других популяций, а также является элементарной единицей эволю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ANI_MARV"/>
          <p:cNvPicPr/>
          <p:nvPr/>
        </p:nvPicPr>
        <p:blipFill>
          <a:blip r:embed="rId1"/>
          <a:stretch/>
        </p:blipFill>
        <p:spPr>
          <a:xfrm>
            <a:off x="5460840" y="4457880"/>
            <a:ext cx="20368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95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41196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8ce8"/>
                </a:solidFill>
                <a:latin typeface="Comic Sans MS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2680" y="681120"/>
          <a:ext cx="6577200" cy="5499000"/>
        </p:xfrm>
        <a:graphic>
          <a:graphicData uri="http://schemas.openxmlformats.org/drawingml/2006/table">
            <a:tbl>
              <a:tblPr/>
              <a:tblGrid>
                <a:gridCol w="2192400"/>
                <a:gridCol w="2192400"/>
                <a:gridCol w="2192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ятие на языке биологи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a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a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ятие на языке математик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faf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исленность в момент времен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= x(t)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ункция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ервал времен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= 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– 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ращение аргумента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менение численности популяци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= x(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 – x(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ращение функци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корость изменения численности популяци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/∆t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ношение приращения функции к приращению аргумента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носительный прирост в данный момент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/∆t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     0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изводная 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79"/>
          <p:cNvSpPr/>
          <p:nvPr/>
        </p:nvSpPr>
        <p:spPr>
          <a:xfrm>
            <a:off x="3927600" y="5791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Text Box 91"/>
          <p:cNvSpPr/>
          <p:nvPr/>
        </p:nvSpPr>
        <p:spPr>
          <a:xfrm>
            <a:off x="5595840" y="637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Text Box 92"/>
          <p:cNvSpPr/>
          <p:nvPr/>
        </p:nvSpPr>
        <p:spPr>
          <a:xfrm>
            <a:off x="5219640" y="5877000"/>
            <a:ext cx="221004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63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3056"/>
                </a:solidFill>
                <a:latin typeface="Comic Sans MS"/>
              </a:rPr>
              <a:t>Р = х</a:t>
            </a:r>
            <a:r>
              <a:rPr b="0" lang="en-US" sz="2800" spc="-1" strike="noStrike">
                <a:solidFill>
                  <a:srgbClr val="f63056"/>
                </a:solidFill>
                <a:latin typeface="Comic Sans MS"/>
              </a:rPr>
              <a:t>‘</a:t>
            </a:r>
            <a:r>
              <a:rPr b="0" lang="ru-RU" sz="2800" spc="-1" strike="noStrike">
                <a:solidFill>
                  <a:srgbClr val="f63056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63056"/>
                </a:solidFill>
                <a:latin typeface="Comic Sans MS"/>
              </a:rPr>
              <a:t>t)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AutoShape 125"/>
          <p:cNvSpPr/>
          <p:nvPr/>
        </p:nvSpPr>
        <p:spPr>
          <a:xfrm>
            <a:off x="3581280" y="5665680"/>
            <a:ext cx="15264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1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1920" y="92232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7bdc9"/>
                </a:solidFill>
                <a:latin typeface="Comic Sans MS"/>
              </a:rPr>
              <a:t>Задача по хим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31840" y="1773000"/>
            <a:ext cx="69105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усть количество вещества, вступившего в химическую реакцию задается зависимостью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t)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 –3 (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ль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йти скорость химической реакции через 3 секун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FIRE"/>
          <p:cNvPicPr/>
          <p:nvPr/>
        </p:nvPicPr>
        <p:blipFill>
          <a:blip r:embed="rId1"/>
          <a:stretch/>
        </p:blipFill>
        <p:spPr>
          <a:xfrm>
            <a:off x="3938760" y="4006800"/>
            <a:ext cx="2292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5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6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1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4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4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077840" y="1289160"/>
          <a:ext cx="7297920" cy="4025880"/>
        </p:xfrm>
        <a:graphic>
          <a:graphicData uri="http://schemas.openxmlformats.org/drawingml/2006/table">
            <a:tbl>
              <a:tblPr/>
              <a:tblGrid>
                <a:gridCol w="2136960"/>
                <a:gridCol w="2178000"/>
                <a:gridCol w="29829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ятие на языке хими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1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значение 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1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ятие на языке математик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1fd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 в-ва в момент времен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 = p(t) 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ункция 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ервал времен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= 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– t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ращение аргумента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менение количества в-ва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 = p(t+  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 – p(t)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ращение функци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яя скорость химической реакции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/∆t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ношение приращён. функции к приращён. аргументу </a:t>
                      </a:r>
                      <a:endParaRPr b="0" lang="en-US" sz="1800" spc="-1" strike="noStrike">
                        <a:solidFill>
                          <a:srgbClr val="ff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60"/>
          <p:cNvSpPr/>
          <p:nvPr/>
        </p:nvSpPr>
        <p:spPr>
          <a:xfrm>
            <a:off x="3540240" y="5402160"/>
            <a:ext cx="2286000" cy="459720"/>
          </a:xfrm>
          <a:prstGeom prst="rect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 (t) = p ‘(t)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Rectangle 71"/>
          <p:cNvSpPr/>
          <p:nvPr/>
        </p:nvSpPr>
        <p:spPr>
          <a:xfrm>
            <a:off x="1279440" y="450720"/>
            <a:ext cx="68709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7bdc9"/>
                </a:solidFill>
                <a:latin typeface="Comic Sans MS"/>
              </a:rPr>
              <a:t>Решение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6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1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5080" y="865080"/>
            <a:ext cx="687096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Над презентацией работал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1" descr="COMPUT~1"/>
          <p:cNvPicPr/>
          <p:nvPr/>
        </p:nvPicPr>
        <p:blipFill>
          <a:blip r:embed="rId1"/>
          <a:stretch/>
        </p:blipFill>
        <p:spPr>
          <a:xfrm>
            <a:off x="4129200" y="3327480"/>
            <a:ext cx="1234800" cy="100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ANI_TAZ"/>
          <p:cNvPicPr/>
          <p:nvPr/>
        </p:nvPicPr>
        <p:blipFill>
          <a:blip r:embed="rId2"/>
          <a:stretch/>
        </p:blipFill>
        <p:spPr>
          <a:xfrm>
            <a:off x="5784840" y="1384200"/>
            <a:ext cx="1500120" cy="170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PIGGVIN"/>
          <p:cNvPicPr/>
          <p:nvPr/>
        </p:nvPicPr>
        <p:blipFill>
          <a:blip r:embed="rId3"/>
          <a:stretch/>
        </p:blipFill>
        <p:spPr>
          <a:xfrm>
            <a:off x="2332080" y="50958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PD_ANI"/>
          <p:cNvPicPr/>
          <p:nvPr/>
        </p:nvPicPr>
        <p:blipFill>
          <a:blip r:embed="rId4"/>
          <a:stretch/>
        </p:blipFill>
        <p:spPr>
          <a:xfrm>
            <a:off x="538200" y="490680"/>
            <a:ext cx="1836720" cy="143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OOK"/>
          <p:cNvPicPr/>
          <p:nvPr/>
        </p:nvPicPr>
        <p:blipFill>
          <a:blip r:embed="rId5"/>
          <a:stretch/>
        </p:blipFill>
        <p:spPr>
          <a:xfrm>
            <a:off x="927000" y="4160880"/>
            <a:ext cx="130500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e-mail_4562"/>
          <p:cNvPicPr/>
          <p:nvPr/>
        </p:nvPicPr>
        <p:blipFill>
          <a:blip r:embed="rId6"/>
          <a:stretch/>
        </p:blipFill>
        <p:spPr>
          <a:xfrm>
            <a:off x="266760" y="2457360"/>
            <a:ext cx="1655640" cy="1524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1"/>
          <p:cNvSpPr/>
          <p:nvPr/>
        </p:nvSpPr>
        <p:spPr>
          <a:xfrm>
            <a:off x="1128600" y="262584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теоретическую часть 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дготовила Эминова  Лаура;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3894840" y="55054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оектом руководилаКозак Л.В.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5453640" y="326880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компьютерную подборку 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дготовил Забудько Матвей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2617920" y="4495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звучила:Талалаева Екатерина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30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3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8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3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1:31:38Z</dcterms:created>
  <dc:creator>User</dc:creator>
  <dc:description/>
  <dc:language>en-US</dc:language>
  <cp:lastModifiedBy>Лора</cp:lastModifiedBy>
  <dcterms:modified xsi:type="dcterms:W3CDTF">2009-04-06T03:19:35Z</dcterms:modified>
  <cp:revision>16</cp:revision>
  <dc:subject/>
  <dc:title>Слайд 1</dc:title>
</cp:coreProperties>
</file>