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4.gif" ContentType="image/gif"/>
  <Override PartName="/ppt/media/image2.gif" ContentType="image/gif"/>
  <Override PartName="/ppt/media/image3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699-B69D-46D2-BC65-EBEAABD1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0AD-9B5C-455C-9503-A7905D42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CC6-0631-44F2-891D-DC09724D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DDC-3858-466A-A80E-2807E0BC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0EF-E698-4DE7-B191-61F35216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6985-2B12-4B42-86DE-692AFE2C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EC55-27D1-4033-972C-C7B9517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116F-2BF5-4185-B367-6D15B6B4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5CDD-DF6F-443B-9C1C-51811F3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0E7-DC44-4566-A0F0-3181A4B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393-8E3D-4A8E-BC64-B3BB2E0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270-84EC-44B4-9D11-1AED0EF5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942-4D14-4260-B511-05425105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88D-2E2B-40FF-BE69-9D3E962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7756-64C7-4453-85E2-DB4741B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BD3-29F9-4CEE-80F0-67401193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E98-6AF0-4472-B199-EE0C7496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826-9848-4BF8-8A6C-749846A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502-2AFD-4FED-98AA-049E24D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798-4215-4033-BD4C-FA647FE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818-CCD0-4ECC-AE49-8F4B535F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AE7-714C-4240-96E6-DE8C7C6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A16-6B6D-44A6-ABF0-E7CF962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440-D09A-441E-A7CF-E1BE3ED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B2B-E9F8-45B2-8238-B3CBE9E12F1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DD5-8C6D-4F60-8155-A304CA67A50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011666038524208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2"/>
          <p:cNvSpPr txBox="1"/>
          <p:nvPr/>
        </p:nvSpPr>
        <p:spPr>
          <a:xfrm>
            <a:off x="990720" y="0"/>
            <a:ext cx="739116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13"/>
          <p:cNvSpPr txBox="1"/>
          <p:nvPr/>
        </p:nvSpPr>
        <p:spPr>
          <a:xfrm>
            <a:off x="1295280" y="2057400"/>
            <a:ext cx="6553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изводно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4114800" y="4038480"/>
            <a:ext cx="990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2133720" y="5334120"/>
            <a:ext cx="4238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ик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3429000" y="2470320"/>
            <a:ext cx="45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ча.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числить количество теплоты, которое необходимо для того, чтобы нагреть 1 кг вещества от 0 градусов до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градусов (по Цельсию)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6" name="Picture 6" descr="food3"/>
          <p:cNvPicPr/>
          <p:nvPr/>
        </p:nvPicPr>
        <p:blipFill>
          <a:blip r:embed="rId1"/>
          <a:stretch/>
        </p:blipFill>
        <p:spPr>
          <a:xfrm>
            <a:off x="1552680" y="3828960"/>
            <a:ext cx="120636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4R31"/>
          <p:cNvPicPr/>
          <p:nvPr/>
        </p:nvPicPr>
        <p:blipFill>
          <a:blip r:embed="rId2"/>
          <a:stretch/>
        </p:blipFill>
        <p:spPr>
          <a:xfrm>
            <a:off x="1692360" y="2413080"/>
            <a:ext cx="869760" cy="104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tea_steaming_md_wht"/>
          <p:cNvPicPr/>
          <p:nvPr/>
        </p:nvPicPr>
        <p:blipFill>
          <a:blip r:embed="rId3"/>
          <a:stretch/>
        </p:blipFill>
        <p:spPr>
          <a:xfrm>
            <a:off x="6146640" y="1036800"/>
            <a:ext cx="1371600" cy="1199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2962440" y="1149480"/>
            <a:ext cx="222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Тепло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90480" y="1034640"/>
            <a:ext cx="248436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ешение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усть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=Q(t)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ассмотрим малый отрезок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[t;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+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]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этом отрезк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=c(t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•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(t)=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/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и </a:t>
            </a:r>
            <a:r>
              <a:rPr b="0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0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lim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/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 =Q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′(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(t)=Q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′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dissolve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7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6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8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86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7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27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5080" y="1149480"/>
            <a:ext cx="1643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Заря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66880" y="2692440"/>
            <a:ext cx="78483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Задача.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числить силу ток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, который несет на себе заряд, заданный зависимостью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ru-RU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s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ω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ahoma"/>
                <a:ea typeface="Tahoma"/>
              </a:rPr>
              <a:t>0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t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Кл) через поперечное сечение проводник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7" descr="4д"/>
          <p:cNvPicPr/>
          <p:nvPr/>
        </p:nvPicPr>
        <p:blipFill>
          <a:blip r:embed="rId1"/>
          <a:stretch/>
        </p:blipFill>
        <p:spPr>
          <a:xfrm>
            <a:off x="6638760" y="1351080"/>
            <a:ext cx="927360" cy="1249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24120" y="1163520"/>
            <a:ext cx="2233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Реш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1968480"/>
            <a:ext cx="708012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Рассмотрим приращение заряда на маленьком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трезке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[t; t+t]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, тогда 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q = I(t) t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q/ t = I(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Если  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0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, то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lim q/ t = q’(t)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,т.е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I (t)= q’(t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ahoma"/>
              </a:rPr>
              <a:t>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ahoma"/>
              </a:rPr>
              <a:t>t0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 = q’ 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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n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056760" y="358128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267080" y="358128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175280" y="303516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4191120" y="365760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191120" y="365760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dissolve/>
    <p:sndAc>
      <p:stSnd>
        <p:snd r:embed="rId1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06280" y="704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Unicode MS"/>
              </a:rPr>
              <a:t>Ф – магнитный поток – одна из характеристик магнитного по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изический смысл магнитного потока – это величина, выражающая энергию, которая переносится магнитным полем через площадь, ограниченную данным контур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ример, если Ф=50 Вб (Вебер), то это значит, что через замкнутый контур с током, находящимся в однородном магнитном поле, проходит энергия в 50 Дж (Джоуль) на силу тока в 1 А (Ампер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747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Unicode MS"/>
              </a:rPr>
              <a:t>Геометрический смыс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 Unicode MS"/>
              </a:rPr>
              <a:t>магнитного пото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еометрический смысл магнитного потока – это величина выражающая число линий индукции магнитного поля, которые проходят через площадь, ограниченную данным контуром.Геометрически это означает, что через указанный контур проходит 50 линий индукции магнитного пол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4760" y="544680"/>
            <a:ext cx="77932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Unicode MS"/>
              </a:rPr>
              <a:t>Геометрический смыс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 Unicode MS"/>
              </a:rPr>
              <a:t>магнитного пото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рмаль к поверхности рам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– вектор магнитной инду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=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WP Phonetic"/>
                <a:ea typeface="WP Phonetic"/>
              </a:rPr>
              <a:t>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равномерном вращении рамки угол </a:t>
            </a:r>
            <a:r>
              <a:rPr b="0" lang="ru-RU" sz="1800" spc="-1" strike="noStrike">
                <a:solidFill>
                  <a:srgbClr val="000000"/>
                </a:solidFill>
                <a:latin typeface="WP Phonetic"/>
                <a:ea typeface="WP Phonetic"/>
              </a:rPr>
              <a:t>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следовательно Ф=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sW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закону Фарадея, ЭДС инду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6426360" y="4267080"/>
                <a:ext cx="2063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Ф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2"/>
              <p:cNvSpPr txBox="1"/>
              <p:nvPr/>
            </p:nvSpPr>
            <p:spPr>
              <a:xfrm>
                <a:off x="4883040" y="5410080"/>
                <a:ext cx="3956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t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W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Oval 15"/>
          <p:cNvSpPr/>
          <p:nvPr/>
        </p:nvSpPr>
        <p:spPr>
          <a:xfrm>
            <a:off x="1066680" y="4114800"/>
            <a:ext cx="34290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198108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1371600" y="2895480"/>
            <a:ext cx="1447920" cy="2895840"/>
            <a:chOff x="1371600" y="2895480"/>
            <a:chExt cx="1447920" cy="2895840"/>
          </a:xfrm>
        </p:grpSpPr>
        <p:sp>
          <p:nvSpPr>
            <p:cNvPr id="137" name="Line 16"/>
            <p:cNvSpPr/>
            <p:nvPr/>
          </p:nvSpPr>
          <p:spPr>
            <a:xfrm flipV="1">
              <a:off x="1371600" y="2895480"/>
              <a:ext cx="1447920" cy="28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38" name="Oval 22"/>
            <p:cNvSpPr/>
            <p:nvPr/>
          </p:nvSpPr>
          <p:spPr>
            <a:xfrm>
              <a:off x="1676520" y="4724280"/>
              <a:ext cx="45720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1905120" y="3048120"/>
            <a:ext cx="1447560" cy="2743200"/>
            <a:chOff x="1905120" y="3048120"/>
            <a:chExt cx="1447560" cy="2743200"/>
          </a:xfrm>
        </p:grpSpPr>
        <p:sp>
          <p:nvSpPr>
            <p:cNvPr id="140" name="Line 20"/>
            <p:cNvSpPr/>
            <p:nvPr/>
          </p:nvSpPr>
          <p:spPr>
            <a:xfrm flipV="1">
              <a:off x="1905120" y="3048120"/>
              <a:ext cx="144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2209680" y="4800600"/>
              <a:ext cx="38124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2514600" y="3047760"/>
            <a:ext cx="1447920" cy="2895480"/>
            <a:chOff x="2514600" y="3047760"/>
            <a:chExt cx="1447920" cy="2895480"/>
          </a:xfrm>
        </p:grpSpPr>
        <p:sp>
          <p:nvSpPr>
            <p:cNvPr id="143" name="Line 18"/>
            <p:cNvSpPr/>
            <p:nvPr/>
          </p:nvSpPr>
          <p:spPr>
            <a:xfrm flipV="1">
              <a:off x="2514600" y="3047760"/>
              <a:ext cx="144792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2743200" y="4800600"/>
              <a:ext cx="60948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145" name="Arc 28"/>
          <p:cNvSpPr/>
          <p:nvPr/>
        </p:nvSpPr>
        <p:spPr>
          <a:xfrm>
            <a:off x="1981080" y="3811680"/>
            <a:ext cx="304920" cy="8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5486400" y="2666880"/>
            <a:ext cx="2682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51055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5883120" y="553392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Line 34"/>
          <p:cNvSpPr/>
          <p:nvPr/>
        </p:nvSpPr>
        <p:spPr>
          <a:xfrm flipV="1">
            <a:off x="7608960" y="556272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Line 35"/>
          <p:cNvSpPr/>
          <p:nvPr/>
        </p:nvSpPr>
        <p:spPr>
          <a:xfrm>
            <a:off x="7467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2086920" y="327672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P Phonetic"/>
                <a:ea typeface="WP Phonetic"/>
              </a:rPr>
              <a:t>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1514880" y="2895480"/>
            <a:ext cx="354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661480" y="2514600"/>
            <a:ext cx="33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Line 39"/>
          <p:cNvSpPr/>
          <p:nvPr/>
        </p:nvSpPr>
        <p:spPr>
          <a:xfrm>
            <a:off x="160020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2666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Line 41"/>
          <p:cNvSpPr/>
          <p:nvPr/>
        </p:nvSpPr>
        <p:spPr>
          <a:xfrm>
            <a:off x="5102280" y="232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3:15:30Z</dcterms:created>
  <dc:creator>Алина</dc:creator>
  <dc:description/>
  <dc:language>en-US</dc:language>
  <cp:lastModifiedBy>Лора</cp:lastModifiedBy>
  <dcterms:modified xsi:type="dcterms:W3CDTF">2009-04-06T03:27:34Z</dcterms:modified>
  <cp:revision>34</cp:revision>
  <dc:subject/>
  <dc:title>Презентация PowerPoint</dc:title>
</cp:coreProperties>
</file>